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F95-D89F-4A64-84E0-5539563EFAB7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7CE7-7DA5-43A0-B219-74071A96AF2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C9D-B004-4A1C-94AC-4FF4F014B47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Using Portals and Registr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Publishing Metadata to GCMD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79754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ola Olse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Tyler Stevens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Wyle Information Systems (NASA Contractor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49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53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54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55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56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7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8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and maintaining metadata is part of the data management lifecyc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BUILDER makes it easy for users to update/maintain their metadata entr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F entries provide a direct link (i.e.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gcmd.nasa.gov/getdif.htm?GES_DISC_AIRI2CCF_NRT_V005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) to metadata that can be added to data management repor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discove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dvertis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Using portals and regist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Stevens, Tyler B. (GSFC-610.2)[Affiliate]</dc:creator>
  <dc:description/>
  <dc:language>en-US</dc:language>
  <cp:lastModifiedBy>tstevens</cp:lastModifiedBy>
  <dcterms:modified xsi:type="dcterms:W3CDTF">2011-10-12T12:54:24Z</dcterms:modified>
  <cp:revision>84</cp:revision>
  <dc:subject/>
  <dc:title>ESIP Federation 101</dc:title>
</cp:coreProperties>
</file>